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ver-bl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INSU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2, page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. Paid cash for insurance, $1,200.00. Check No.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7524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id 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068800"/>
            <a:ext cx="6858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962520"/>
            <a:ext cx="59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857680"/>
            <a:ext cx="5867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id Insu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 asset accou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48" name="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49" name=""/>
              <p:cNvSpPr/>
              <p:nvPr/>
            </p:nvSpPr>
            <p:spPr>
              <a:xfrm>
                <a:off x="671436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53" name=""/>
              <p:cNvSpPr/>
              <p:nvPr/>
            </p:nvSpPr>
            <p:spPr>
              <a:xfrm>
                <a:off x="6042600" y="1523880"/>
                <a:ext cx="203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epaid Insur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24000" y="2590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679520" y="434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00160" y="4038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440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INSURANC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Ch04-02a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91600" cy="136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2, page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4. Paid cash for insurance, $1,200.00. Check No.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2057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95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0280" y="4038480"/>
            <a:ext cx="40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Prepaid Insu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60" y="4400640"/>
            <a:ext cx="25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38280" y="1523880"/>
            <a:ext cx="1981440" cy="1143000"/>
            <a:chOff x="2438280" y="1523880"/>
            <a:chExt cx="1981440" cy="1143000"/>
          </a:xfrm>
        </p:grpSpPr>
        <p:sp>
          <p:nvSpPr>
            <p:cNvPr id="74" name=""/>
            <p:cNvSpPr/>
            <p:nvPr/>
          </p:nvSpPr>
          <p:spPr>
            <a:xfrm>
              <a:off x="3581280" y="1828800"/>
              <a:ext cx="83844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438280" y="1600200"/>
              <a:ext cx="10670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15238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2, page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1. Paid cash on account to Ling Music Supplies, $1,360.00, Check No.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752480"/>
            <a:ext cx="5181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Payable—Ling Music 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181480"/>
            <a:ext cx="7162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de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962520"/>
            <a:ext cx="5942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are de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819520"/>
            <a:ext cx="6324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ts. Pay.—Ling Music Suppli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ability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18280" y="1523880"/>
            <a:ext cx="3580920" cy="3881520"/>
            <a:chOff x="5318280" y="1523880"/>
            <a:chExt cx="3580920" cy="3881520"/>
          </a:xfrm>
        </p:grpSpPr>
        <p:grpSp>
          <p:nvGrpSpPr>
            <p:cNvPr id="85" name="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86" name=""/>
              <p:cNvSpPr/>
              <p:nvPr/>
            </p:nvSpPr>
            <p:spPr>
              <a:xfrm>
                <a:off x="671436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18280" y="1523880"/>
              <a:ext cx="3580920" cy="1828800"/>
              <a:chOff x="5318280" y="1523880"/>
              <a:chExt cx="3580920" cy="1828800"/>
            </a:xfrm>
          </p:grpSpPr>
          <p:sp>
            <p:nvSpPr>
              <p:cNvPr id="90" name=""/>
              <p:cNvSpPr/>
              <p:nvPr/>
            </p:nvSpPr>
            <p:spPr>
              <a:xfrm>
                <a:off x="5318280" y="1523880"/>
                <a:ext cx="35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ts. Pay.—Ling Music Suppl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5410080" y="1905120"/>
                <a:ext cx="3429000" cy="1447560"/>
                <a:chOff x="5410080" y="1905120"/>
                <a:chExt cx="3429000" cy="14475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5410080" y="1905120"/>
                  <a:ext cx="342900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86600" y="1909800"/>
                  <a:ext cx="0" cy="1442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" name=""/>
          <p:cNvSpPr/>
          <p:nvPr/>
        </p:nvSpPr>
        <p:spPr>
          <a:xfrm>
            <a:off x="716184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36480" y="230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24000" y="2057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6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679520" y="428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00160" y="4038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6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4000" y="409248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04-02c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37680" cy="136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ON ACCOU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4-2, page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1. Paid cash on account to Ling Music Supplies, $1,360.00, Check No.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2057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8954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9200" y="365760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480" y="4038480"/>
            <a:ext cx="67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t Accounts Payable—Ling Music Su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760" y="4400640"/>
            <a:ext cx="25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C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760" y="4762440"/>
            <a:ext cx="53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source document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1523880"/>
            <a:ext cx="1981440" cy="1143000"/>
            <a:chOff x="2438280" y="1523880"/>
            <a:chExt cx="1981440" cy="1143000"/>
          </a:xfrm>
        </p:grpSpPr>
        <p:sp>
          <p:nvSpPr>
            <p:cNvPr id="112" name=""/>
            <p:cNvSpPr/>
            <p:nvPr/>
          </p:nvSpPr>
          <p:spPr>
            <a:xfrm>
              <a:off x="3581280" y="1828800"/>
              <a:ext cx="83844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438280" y="1600200"/>
              <a:ext cx="106704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15238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3:17:25Z</dcterms:created>
  <dc:creator>Mary Colleen McLaughlin</dc:creator>
  <dc:description/>
  <dc:language>en-US</dc:language>
  <cp:lastModifiedBy>Mary Colleen McLaughlin</cp:lastModifiedBy>
  <cp:lastPrinted>1999-03-27T04:51:25Z</cp:lastPrinted>
  <dcterms:modified xsi:type="dcterms:W3CDTF">1999-04-20T04:52:38Z</dcterms:modified>
  <cp:revision>12</cp:revision>
  <dc:subject/>
  <dc:title>THE ACCOUNTING EQUATION</dc:title>
</cp:coreProperties>
</file>